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gif" ContentType="image/gif"/>
  <Override PartName="/ppt/media/image9.png" ContentType="image/pn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57780-732F-4F5C-A1CA-AD6C34549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04F12-7938-4B35-80D2-13692397C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80FFA-A0C3-4D6A-8448-7AFF99EBE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27D96-9DF3-4A15-9ADE-237CA0700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84933-D66B-4C07-AFDF-19506AA5F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65573-9A9E-4EC8-9D29-E2ECAE29A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14207-466E-48F9-BEA7-F0DB0DD00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65E52-AEF2-4EC5-946E-485080DD0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B0B45-2FF0-46A1-BE1A-C79B01908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90C1C-2F98-4D4A-94E4-94DACE6B1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97168-F3D5-4F38-84AA-9398F972F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02914-ED6A-4D39-B08C-470B3DD1A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A47BD-4D98-4580-9053-B1B2A005E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6F277-E4B7-4C27-9F47-0C1EFDEA9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A0FFA-281E-4C8E-BBEC-499EF2D6C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6547D-D793-4B6C-A702-63C5AC7D3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52219-8123-4459-A427-1B1557D9B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8D535-C2A7-43F4-B220-57D271227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61C4E-BEEF-4FCF-9499-656AA09EF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03F5E-09B3-4340-89BF-B2F3BD1BF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85FED-0268-4D74-92B6-C25F25FC7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33C12-3EC5-45A4-B296-082F6AA3D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294A1-4303-4B18-A4B3-5204A6AF8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44C1F-4534-49BD-A6EC-AF297DE43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FA7E9-6DA1-4F5A-8EC0-D0F6E341E554}" type="slidenum">
              <a:rPr b="0" lang="sr-Latn-C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3FB03-ACEC-4C04-886D-10DF502B3F06}" type="slidenum">
              <a:rPr b="0" lang="sr-Latn-C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5400" spc="-1" strike="noStrike">
                <a:solidFill>
                  <a:srgbClr val="dfdef6"/>
                </a:solidFill>
                <a:latin typeface="Arial"/>
              </a:rPr>
              <a:t>Trauma kod žena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Prof dr A.Živanovi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GAK KC Kragujeva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dfdef6"/>
                </a:solidFill>
                <a:latin typeface="Arial"/>
              </a:rPr>
              <a:t>Cirkulacija i kontrola krvarenja 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Srčana frekvenca se povećava tokom trudnoće i dostiže tokom trećeg trimenstra povećanje od 10 do 15 otkucaja u min u odnosu na bazalnu liniju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Arterijski krvni pritisak se smanjuje za 5 do 15 mmHg tokom drugog trimestra sa povratkom na normanlne vrednosti u terminu porođaj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Cirkulatorni volumen se povećava za 40 do 50%, uglavnom povećanjem volumena plazme što dovodi do hemodilucije i „fiziološke anemije“ u trudnoći. Hematokrit u trećem trimestru je normalno 0,30 do 0,35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Ove promene su bitne kako bi se smanjio ukupan gubitak eritrocita tokom krvarenja u porođaju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dfdef6"/>
                </a:solidFill>
                <a:latin typeface="Arial"/>
              </a:rPr>
              <a:t>Cirkulacija i kontrola krvarenja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Srčani izlazni volumen krvi se povećava tokom trudnoće, tako da dostiže 20 do 30% veće vrednosti a krajem trećeg trimestra čak 40% veće vrednosti u odosu na stanje pre trudnoć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Oko 25% cirkulatornog volumena odlazi za potrebe materice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U trećem trimestru materica mehanički, može pritiskom na venu kavu da redukuje venski input u srce ukoliko se trudnica leži na leđima - sindrom vene cav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2" name="" descr=""/>
          <p:cNvPicPr/>
          <p:nvPr/>
        </p:nvPicPr>
        <p:blipFill>
          <a:blip r:embed="rId4"/>
          <a:stretch/>
        </p:blipFill>
        <p:spPr>
          <a:xfrm>
            <a:off x="457200" y="2306520"/>
            <a:ext cx="4038480" cy="31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dfdef6"/>
                </a:solidFill>
                <a:latin typeface="Arial"/>
              </a:rPr>
              <a:t>Cirkulacija i kontrola krvarenja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Cirkulatorne promene u trudnoći, omogućavaju ženi da se lako adaptira na gubitak krvi od 1000 do 1500ml uz minimalne kliničke znake, dok s druge strane fetus pokazuje jasne znake patnj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Fiziološki vaskularni sistem posteljice je maksimalno dilatiran i ne poseduje značajnu autoregulatornu rezervu. To znači da pad arterijskog krvnog pritiska kod trudnice dovodi do placentalne vazokonstrikcije i smanjenja uteroplacentarnog protoka što ima za posledicu dramatičan pad parcijalnog pritiska kiseonika u fetalnoj cirkulacij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Kompenzacije hipovolemije kod majke drastično utiče na fetalni distr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dfdef6"/>
                </a:solidFill>
                <a:latin typeface="Arial"/>
              </a:rPr>
              <a:t>Cirkulacija i kontrola krvarenja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Normalni fetalni parametri ukazuju na manji gubitak krvi i na adekvatnu resuscitaciju. S druge strane, hipotenzija trudnice koja nije posledica aortokavalne kompresije, dovodi  u 80% slučajeva do intrauterusne smrti plod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Agresivna resuscitacija volumena mora se uspostaviti rano u ovakvim slučajevim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Terapijska nadoknada cirkulatornog volumena počinje brzom infuzijom kristalnih rastvora i transfuzijom eritrocita. Ovi postupci predstavljaju osnovu u terapiji hemoragijskog šok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dfdef6"/>
                </a:solidFill>
                <a:latin typeface="Arial"/>
              </a:rPr>
              <a:t>Cirkulacija i kontrola krvarenja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Potrošna koagulopatija može da izazove sekundarni šok i oštećenje tkiva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Nivo fibrinogena ispod 100 mg na decilitar ili produženo protrombinsko vreme i APTT je indikacija kod pacijentkinja koje krvare za upotrebu krioprecipitata plazme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Ordiniranje opranih trombocita zavisi od koncentracije trombocita. Jedna jedinica transfuzije trombocita podiže broj trombocita od 8.000 do 10.000 na milimetar kubni i treba je uvek primeniti kada je broj trombocita manji od 30.000 na milimetar kubni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9" name="" descr=""/>
          <p:cNvPicPr/>
          <p:nvPr/>
        </p:nvPicPr>
        <p:blipFill>
          <a:blip r:embed="rId4"/>
          <a:stretch/>
        </p:blipFill>
        <p:spPr>
          <a:xfrm>
            <a:off x="457200" y="2484360"/>
            <a:ext cx="4038480" cy="27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dfdef6"/>
                </a:solidFill>
                <a:latin typeface="Arial"/>
              </a:rPr>
              <a:t>Cirkulacija i kontrola krvarenja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Obzirom da se traumatizovani pacijenti obično transportuju u supinoj poziciji postoji kod trudnica rizik za pojavu sindroma vene cave, posebno u trećem trimestru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Zbog toga se mora obezbediti lako pomeranje materice u stranu, obično na levu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2" name="" descr=""/>
          <p:cNvPicPr/>
          <p:nvPr/>
        </p:nvPicPr>
        <p:blipFill>
          <a:blip r:embed="rId3"/>
          <a:stretch/>
        </p:blipFill>
        <p:spPr>
          <a:xfrm>
            <a:off x="457200" y="2351160"/>
            <a:ext cx="403848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dfdef6"/>
                </a:solidFill>
                <a:latin typeface="Arial"/>
              </a:rPr>
              <a:t>Promene na CNS 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Trauma kod trudnice može nastati kao posledica eklamptičnog napada a redukovani stepen svesnosti pacijentkinje ne nastaje samo od povrede glave, nego se može javiti i kao deo kliničke slike eklampsij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Neophodno što pre uraditi analizu urina na proteine. Konkomitantno prisustvo proteinurije, hipertenzije i perifernog edema olakšava postavljanje dijagnoz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Ne postoji specifičan test za dijagnozu eklampsije. Dijagoza se postavlja na osnovu kliničkih znakova i simptoma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dfdef6"/>
                </a:solidFill>
                <a:latin typeface="Arial"/>
              </a:rPr>
              <a:t>Sekundarna obrada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Neophodno je pažljivo ispitivanje abdomen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Znaci peritonealne iritacije mogu biti otežani kod trudnica, zbog istezanja prednjeg trbušnog zida od strane uvećane materice. Određivanje zone bolova i širenja bola u predelu abdomena je od izuzetnog značaja. Pokreti ploda mogu se palpirati kao i prisustvo ili odsustvo materičnih kontrakcij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Konsultacija akušera je neophodna u ovoj fazi obrade pacijentkinje kako bi se dijagnostikovalo stanje fetusa i eventualne intravaginalne povred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dfdef6"/>
                </a:solidFill>
                <a:latin typeface="Arial"/>
              </a:rPr>
              <a:t>Sekundarna obrada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Vaginalno krvarenje se javlja u 70% slučajeva abrupcije placente. Izuzetak su retroplacentarni hematomi. U takvim slučajevima bitno je prepoznati pojačan tonus materice, bol i fetalni distre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Abrupcija posteljice dešava se kod 2 do 4% slučajeva trauma manjeg intenziteta dok se kod abdominalnih trauma taj broj penje i na 50%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Neophodna je auskultacija srčanih tonova ploda što p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U maloj trudnoći koristi se ultrazvučna dijagnostika a kod većih trudnoća, posebno u trećem trimestru metoda izbora je kontinuirana kardiotokografija (CTG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dfdef6"/>
                </a:solidFill>
                <a:latin typeface="Arial"/>
              </a:rPr>
              <a:t>Sekundarna obrada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284360" y="1267920"/>
            <a:ext cx="4397400" cy="45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Sve trudnice, žrtve traume, kod kojih je dijagnostikovana vitalna trudnoća veća od 24 gestacione nedelje treba podvrgnuti kontinuiranom CTG monitoringu, čak iako nema evidentne povrede abdomen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Ova vrsta ispitivanja ima visoku senzitivnost i specifičnost u otkrivanju početka prevremnog porođaja, abrupcije posteljice i fetalne asfiksij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1" name="" descr=""/>
          <p:cNvPicPr/>
          <p:nvPr/>
        </p:nvPicPr>
        <p:blipFill>
          <a:blip r:embed="rId3"/>
          <a:stretch/>
        </p:blipFill>
        <p:spPr>
          <a:xfrm>
            <a:off x="395280" y="2133720"/>
            <a:ext cx="331308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Trudnoća menja funkcije skoro svih sistema u organizmu žen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Izmenjene su osnovne fiziološke funkcije i postoji razlika u odgovoru na patološke nokse u odnosu na stanje van trudnoć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Posebno je i briga o stanju fetusa važna u strategiji dijagnostičkih i terapijksih procedu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Mnogi principi koji se primenjuju kod kritičnih pacijenata, primenjuju se i kod trudnic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Trauma kod žena u trudnoći je veoma česta (6 do 8%) i najčešći je ne-akušerski uzrok smrti u ovoj grupi pacijenat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dfdef6"/>
                </a:solidFill>
                <a:latin typeface="Arial"/>
              </a:rPr>
              <a:t>Feto maternalna hemoragija 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Fetomaternalna hemoragija je pojam koji opisuje gubitak krvi preko uteroplacentarne jedini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Kod 8 do 30% slučajeva traume trudnica, dolazi do prodora fetalnih eritrocita u krvotok majke. To dovodi do povećanog rizika da se kod Rh negativnih trudnica razvije senzibilizacija na Rh pozitivan fetu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Ne postoji korelacija između težine traume, gestacione starosti trudnoće i veličine fetomaternalne hemoragije u odnosu na stepen senzibilizacije. Čak i mala količina fetalne krvi kao što je 0,1 ml može da dovede senzibilizacije u 70% slučajev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Obavezna profilaktička doza anti-D imunoglobulina (Rhogam) u dozi od 300 mikrograma, svim traumatizovanim Rh negativnim trudnicam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Profilaksa se sprovodi unutar 72 sata od momenta nastupanja traume. Jedna doza je dovoljna da neutrališe 30ml fetalne krvi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dfdef6"/>
                </a:solidFill>
                <a:latin typeface="Arial"/>
              </a:rPr>
              <a:t>Anatomske implikacije na mehanizam povrede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Tokom prvih dvanaest nedelja trudnoće materica se nalazi unutar koštanog dela male karlice i relativno je zaštićena od mehaničkih povreda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Tokom drugog trimestra materica raste i izlazi iz anatomskog prostora male karlice. Debljina materičnog zida, amnionska tečnost i relativno mala veličina fetusa pomažu da se umanje konsekvence direktne traume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Tokom trećeg trimestra zid materice se istanjuje  tako da je tada manja zaštita od mehaničkih povreda fetus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0" name="" descr=""/>
          <p:cNvPicPr/>
          <p:nvPr/>
        </p:nvPicPr>
        <p:blipFill>
          <a:blip r:embed="rId4"/>
          <a:stretch/>
        </p:blipFill>
        <p:spPr>
          <a:xfrm>
            <a:off x="457200" y="2214720"/>
            <a:ext cx="4038480" cy="33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dfdef6"/>
                </a:solidFill>
                <a:latin typeface="Arial"/>
              </a:rPr>
              <a:t>Anatomske implikacije na mehanizam povrede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Materica kao mišićno vezivni organ u trećem trimenstru ima elasticitet koji se razlikuje od posteljice. To objašnjava veću učestalost abrupcije placente i kod manjih trauma prednjeg trbušnog zida, tako da prilikom mehaničke povrede najčešće dolazi do odlubljivanja placente i posledičnog fetalnog distres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3" name="" descr=""/>
          <p:cNvPicPr/>
          <p:nvPr/>
        </p:nvPicPr>
        <p:blipFill>
          <a:blip r:embed="rId2"/>
          <a:stretch/>
        </p:blipFill>
        <p:spPr>
          <a:xfrm>
            <a:off x="457200" y="2251080"/>
            <a:ext cx="4038480" cy="32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dfdef6"/>
                </a:solidFill>
                <a:latin typeface="Arial"/>
              </a:rPr>
              <a:t>Anatomske implikacije na mehanizam povrede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Probojne povrede u drugom i trećem trimestru mogu izazvati kompleksnu kombinaciju oštećenja organa gastrointenstinalnog trakta koji je tokom trudnoće dislocira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S druge strane materica je krajnje efektivna u zaštiti majke, u smislu veličine zaštitne površine koja se nalazi ispred vitalnih organa kao i zbog povećanog kapaciteta absorpcije energij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Incidenca smrti trudnica je manja. Međutim fetus kod probojnih povreda nije zaštićen. Kod povreda nastalih vatrenim oružjem koje zahvataju matericu maternalni mortalitet je od 7 do 10% a fetalni raste i do 70%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dfdef6"/>
                </a:solidFill>
                <a:latin typeface="Arial"/>
              </a:rPr>
              <a:t>Pre hospitalno zbrinjavanje</a:t>
            </a:r>
            <a:r>
              <a:rPr b="0" lang="sr-Latn-CS" sz="44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Idelano bi primena lokalnog protokola trijaže podrazumevala da se trudnice kao žrtve traume transportuju u ustanovu koja ima sve uslove za zbrinjavanje i trudnice i fetusa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Mogućnost adekvatnog monitoringa fetusa je krucijalni faktor u odlučivanju tokom kliničkih postupaka. Takođe je važno da prehospitalni tim upozori na vreme centar ili bolnicu da tim ginekologa-akušera bude spreman i dostupan pri prijemu povređene trudni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3"/>
          <a:stretch/>
        </p:blipFill>
        <p:spPr>
          <a:xfrm>
            <a:off x="1047600" y="2700360"/>
            <a:ext cx="2857680" cy="23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dfdef6"/>
                </a:solidFill>
                <a:latin typeface="Arial"/>
              </a:rPr>
              <a:t>Kontrola disajnih puteva i vratnog dela kičmenog stuba 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Edem gornjih disajnih puteva trudnica nastaje kao posledica pojačane kapilarne propustljivosti u kasnijim fazama trudnoće kao i zbog povećanja masnog tkiva na licu i povećanja volumena dojki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Kompromitovanje gornjih disajnih puteva zbog inhalacije želudačnog sadržaja je konstatna pretnja, posedno tokom trećeg trimestra kada dolazi do podizanja želuca sa promenom gastroezofagelanog ugla koja dovodi do slabljenja sfinkter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Povećavan rizik od regurgitacije i aspiracije želudačne kiseline tako da je veoma važno obezbediti prolaznost disajnih puteva primenom fiksirajućeg endotrahealnog tubus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dfdef6"/>
                </a:solidFill>
                <a:latin typeface="Arial"/>
              </a:rPr>
              <a:t>Disanje i ventilacija 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Prisustvo gravidne materice, u odmakloj trudnoći, dovodi do promena kao što je smanjenje funkcionalnog rezidualnog kapaciteta (FRC) za 20%, respiratorni pokreti mogu biti smanjeni i za 50% u supinoj poziciji trudnice što može da dovede do smanjenja plućne komplijanse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Kao rezultat ovih promena trudnice su u većem riziku za smanjenu saturaciju i hipoksiju u odnosu na negravidne žene. Zbog toga je neohodna nadoknada kiseonika kod svih traumatizovanih trudnica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4" name="" descr=""/>
          <p:cNvPicPr/>
          <p:nvPr/>
        </p:nvPicPr>
        <p:blipFill>
          <a:blip r:embed="rId4"/>
          <a:stretch/>
        </p:blipFill>
        <p:spPr>
          <a:xfrm>
            <a:off x="539640" y="2492280"/>
            <a:ext cx="37814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dfdef6"/>
                </a:solidFill>
                <a:latin typeface="Arial"/>
              </a:rPr>
              <a:t>Disanje i ventilacija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Zbog redukcije funkcionalnog rezidualnog kapaciteta (FRC) koji je bitan kao rezerva kiseonika tokom apneje kao i zbog povećane potrošnje kiseonika kod trudnica, mora se pažljivo osigurati oksigenacija pre primene hipnotika i neuromuskularnih blokatora tokom endotrahealne intubacije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To se postiže tokom 3 do 6 minutne respiracije 100% koncentracije kiseonika preko maske za disanj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7" name="" descr=""/>
          <p:cNvPicPr/>
          <p:nvPr/>
        </p:nvPicPr>
        <p:blipFill>
          <a:blip r:embed="rId3"/>
          <a:stretch/>
        </p:blipFill>
        <p:spPr>
          <a:xfrm>
            <a:off x="457200" y="2324160"/>
            <a:ext cx="4038480" cy="30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7T08:32:53Z</dcterms:created>
  <dc:creator>Zivanovic</dc:creator>
  <dc:description/>
  <dc:language>en-US</dc:language>
  <cp:lastModifiedBy>Zivanovic</cp:lastModifiedBy>
  <dcterms:modified xsi:type="dcterms:W3CDTF">2011-12-17T22:36:27Z</dcterms:modified>
  <cp:revision>6</cp:revision>
  <dc:subject/>
  <dc:title>Trauma kod žena</dc:title>
</cp:coreProperties>
</file>